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C8E-F78E-4F7B-BB8E-04ECE4E3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0E1-373E-4E84-9567-324F3911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580-2FB0-4F64-A3CF-55B9752D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EB7-CD98-4D03-B42D-D4BC7C87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871-4CBC-44E2-9FC3-7E607035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F42-0DDF-4E91-BEEE-97F359B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4B7-5756-46B1-9C04-71950F8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E1A-063D-4B94-BC52-CA958168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2B5-05A8-4C4C-9F9D-4013B055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306-1F5F-4D82-B9F8-6311C75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191-FCBE-4FB4-B5B3-D170CFFC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2C4-3618-49BB-A14C-21F80DC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A79B-4B36-457E-A7AF-2EB446B9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11880"/>
            <a:ext cx="8077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Inductive Reason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ke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905120"/>
            <a:ext cx="8382240" cy="2819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ductive reasoning to identify patterns and make conje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counterexamples to disprove conje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Making a Conj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number of lines formed by 4 points, no three of which are collinear,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35124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Draw four points. Make sure no three points are collinear. Count the number of lines 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4267080"/>
            <a:ext cx="4191120" cy="47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4876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lines formed by four points, no three of which are collinear, is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8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duct of two odd numbers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190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wo odd numbers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122640"/>
            <a:ext cx="7696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List some examples and look for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1 = 1       3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3 = 9        5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 7 = 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Biology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60344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loud of water leaving a whale’s blowhole when it exhales is called it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blow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A biologist observed blue-whale blows of 25 ft, 29 ft, 27 ft, and 24 ft. Another biologist recorded humpback-whale blows of 8 ft, 7 ft, 8 ft, and 9 ft.  Make a conjecture based on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4191120"/>
          <a:ext cx="8076960" cy="1892160"/>
        </p:xfrm>
        <a:graphic>
          <a:graphicData uri="http://schemas.openxmlformats.org/drawingml/2006/table">
            <a:tbl>
              <a:tblPr/>
              <a:tblGrid>
                <a:gridCol w="4949640"/>
                <a:gridCol w="765360"/>
                <a:gridCol w="787320"/>
                <a:gridCol w="787320"/>
                <a:gridCol w="787320"/>
              </a:tblGrid>
              <a:tr h="534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s of 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 of Blue-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ght of Humpback-whale B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Biology Application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4600" y="1860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blue-whale blow (24 ft) is almost three times higher than the greatest humpback-whale blow (9 ft). Possible conje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4600" y="31989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 of a blue whale’s blow is about three times greater than a humpback whale’s b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2656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eight of a blue-whale’s blow is greater than a humpback whale’s b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conjecture about the lengths of male and female whales based on the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372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n 5 of the 6 pairs of numbers above the female is lo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180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whales are longer than male wh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880" y="2470320"/>
          <a:ext cx="8458200" cy="1415880"/>
        </p:xfrm>
        <a:graphic>
          <a:graphicData uri="http://schemas.openxmlformats.org/drawingml/2006/table">
            <a:tbl>
              <a:tblPr/>
              <a:tblGrid>
                <a:gridCol w="2943360"/>
                <a:gridCol w="919080"/>
                <a:gridCol w="919080"/>
                <a:gridCol w="919440"/>
                <a:gridCol w="919080"/>
                <a:gridCol w="919080"/>
                <a:gridCol w="919080"/>
              </a:tblGrid>
              <a:tr h="47880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Whale L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of Female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 of Male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971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jecture is false, you have to fi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only 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ample in which the conjecture is not true.  This case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how that a conjecture is always true, you must pro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unterexample can be a drawing, a statement, or a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23880" y="1397160"/>
          <a:ext cx="6324480" cy="4063680"/>
        </p:xfrm>
        <a:graphic>
          <a:graphicData uri="http://schemas.openxmlformats.org/drawingml/2006/table">
            <a:tbl>
              <a:tblPr/>
              <a:tblGrid>
                <a:gridCol w="632448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uctive Rea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Look for a patter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Make a conjectur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rove the conjecture or find a  counterexam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A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590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every integ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31989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integers and substitute them into the expression to see if the conjecture 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7640" y="41137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. 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 and 1 &gt; 0, the conjecture ho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7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. 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27 and –2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, the conjecture is fals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480" y="57139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–3 is a counterexam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B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81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wo complementary angles are not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1133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f the two congruent angles both measure 45°, the conjecture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° + 45° = 9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C: Finding a Counter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7590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nthly high temperature in Abilene is never below 90°F for two months in a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1520" y="3733920"/>
          <a:ext cx="8839440" cy="1245960"/>
        </p:xfrm>
        <a:graphic>
          <a:graphicData uri="http://schemas.openxmlformats.org/drawingml/2006/table">
            <a:tbl>
              <a:tblPr/>
              <a:tblGrid>
                <a:gridCol w="698760"/>
                <a:gridCol w="749160"/>
                <a:gridCol w="799920"/>
                <a:gridCol w="698760"/>
                <a:gridCol w="774720"/>
                <a:gridCol w="734760"/>
                <a:gridCol w="757440"/>
                <a:gridCol w="755640"/>
                <a:gridCol w="679320"/>
                <a:gridCol w="754200"/>
                <a:gridCol w="681120"/>
                <a:gridCol w="755640"/>
              </a:tblGrid>
              <a:tr h="459720"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thly High Temperatures (ºF) in Abilene, 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52280" y="5332680"/>
            <a:ext cx="95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nthly high temperatures in January and February were 88°F and 89°F, so the conjecture is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981080"/>
            <a:ext cx="8382240" cy="18288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ctive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j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unter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438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any real numbe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≥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920" y="2933640"/>
            <a:ext cx="2286000" cy="703800"/>
            <a:chOff x="304920" y="2933640"/>
            <a:chExt cx="2286000" cy="703800"/>
          </a:xfrm>
        </p:grpSpPr>
        <p:sp>
          <p:nvSpPr>
            <p:cNvPr id="137" name=""/>
            <p:cNvSpPr/>
            <p:nvPr/>
          </p:nvSpPr>
          <p:spPr>
            <a:xfrm>
              <a:off x="304920" y="3047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=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36840" y="2933640"/>
              <a:ext cx="457200" cy="703800"/>
              <a:chOff x="1536840" y="2933640"/>
              <a:chExt cx="457200" cy="703800"/>
            </a:xfrm>
          </p:grpSpPr>
          <p:sp>
            <p:nvSpPr>
              <p:cNvPr id="139" name=""/>
              <p:cNvSpPr/>
              <p:nvPr/>
            </p:nvSpPr>
            <p:spPr>
              <a:xfrm>
                <a:off x="1536840" y="2933640"/>
                <a:ext cx="457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1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549800" y="3301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04920" y="4724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3809880"/>
            <a:ext cx="7391160" cy="716760"/>
            <a:chOff x="304920" y="3809880"/>
            <a:chExt cx="7391160" cy="716760"/>
          </a:xfrm>
        </p:grpSpPr>
        <p:grpSp>
          <p:nvGrpSpPr>
            <p:cNvPr id="143" name=""/>
            <p:cNvGrpSpPr/>
            <p:nvPr/>
          </p:nvGrpSpPr>
          <p:grpSpPr>
            <a:xfrm>
              <a:off x="304920" y="3809880"/>
              <a:ext cx="7391160" cy="716760"/>
              <a:chOff x="304920" y="3809880"/>
              <a:chExt cx="7391160" cy="7167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920" y="3975480"/>
                <a:ext cx="739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ince        =     ,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≥      .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19320" y="3822840"/>
                <a:ext cx="838080" cy="703800"/>
                <a:chOff x="1219320" y="3822840"/>
                <a:chExt cx="838080" cy="703800"/>
              </a:xfrm>
            </p:grpSpPr>
            <p:grpSp>
              <p:nvGrpSpPr>
                <p:cNvPr id="146" name=""/>
                <p:cNvGrpSpPr/>
                <p:nvPr/>
              </p:nvGrpSpPr>
              <p:grpSpPr>
                <a:xfrm>
                  <a:off x="1270080" y="3822840"/>
                  <a:ext cx="457200" cy="703800"/>
                  <a:chOff x="1270080" y="3822840"/>
                  <a:chExt cx="457200" cy="70380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270080" y="3822840"/>
                    <a:ext cx="4572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1 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283040" y="419112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1219320" y="3911760"/>
                  <a:ext cx="75960" cy="533160"/>
                </a:xfrm>
                <a:custGeom>
                  <a:avLst/>
                  <a:gdLst>
                    <a:gd name="textAreaLeft" fmla="*/ 22320 w 75960"/>
                    <a:gd name="textAreaRight" fmla="*/ 76320 w 75960"/>
                    <a:gd name="textAreaTop" fmla="*/ 84240 h 533160"/>
                    <a:gd name="textAreaBottom" fmla="*/ 448920 h 53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3420"/>
                        <a:pt x="0" y="6840"/>
                      </a:cubicBezTo>
                      <a:lnTo>
                        <a:pt x="0" y="14760"/>
                      </a:lnTo>
                      <a:cubicBezTo>
                        <a:pt x="0" y="1818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1600200" y="3924360"/>
                  <a:ext cx="76320" cy="533520"/>
                </a:xfrm>
                <a:custGeom>
                  <a:avLst/>
                  <a:gdLst>
                    <a:gd name="textAreaLeft" fmla="*/ 22320 w 76320"/>
                    <a:gd name="textAreaRight" fmla="*/ 76320 w 76320"/>
                    <a:gd name="textAreaTop" fmla="*/ 133200 h 533520"/>
                    <a:gd name="textAreaBottom" fmla="*/ 400320 h 533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600200" y="384804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276720" y="3809880"/>
                <a:ext cx="457200" cy="703800"/>
                <a:chOff x="3276720" y="3809880"/>
                <a:chExt cx="457200" cy="7038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27672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8968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057400" y="3809880"/>
                <a:ext cx="457200" cy="703800"/>
                <a:chOff x="2057400" y="3809880"/>
                <a:chExt cx="457200" cy="7038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05740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07036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590920" y="3809880"/>
                <a:ext cx="457200" cy="703800"/>
                <a:chOff x="2590920" y="3809880"/>
                <a:chExt cx="457200" cy="7038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590920" y="3809880"/>
                  <a:ext cx="457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 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603880" y="4178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 flipH="1">
              <a:off x="3035160" y="4038480"/>
              <a:ext cx="1526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590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lementary angles are adjac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7242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plementary angles are not adjacent, so 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94920" y="3352680"/>
            <a:ext cx="5410800" cy="1028880"/>
            <a:chOff x="1294920" y="3352680"/>
            <a:chExt cx="5410800" cy="1028880"/>
          </a:xfrm>
        </p:grpSpPr>
        <p:grpSp>
          <p:nvGrpSpPr>
            <p:cNvPr id="167" name=""/>
            <p:cNvGrpSpPr/>
            <p:nvPr/>
          </p:nvGrpSpPr>
          <p:grpSpPr>
            <a:xfrm>
              <a:off x="1294920" y="3352680"/>
              <a:ext cx="5410800" cy="990720"/>
              <a:chOff x="1294920" y="3352680"/>
              <a:chExt cx="5410800" cy="9907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1600200" y="3352680"/>
                <a:ext cx="2362320" cy="990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294920" y="3352680"/>
                <a:ext cx="5410800" cy="990720"/>
                <a:chOff x="1294920" y="3352680"/>
                <a:chExt cx="5410800" cy="990720"/>
              </a:xfrm>
            </p:grpSpPr>
            <p:sp>
              <p:nvSpPr>
                <p:cNvPr id="170" name=""/>
                <p:cNvSpPr/>
                <p:nvPr/>
              </p:nvSpPr>
              <p:spPr>
                <a:xfrm flipH="1">
                  <a:off x="1294920" y="4343400"/>
                  <a:ext cx="266724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2158920" y="3352680"/>
                  <a:ext cx="4546800" cy="990720"/>
                  <a:chOff x="2158920" y="3352680"/>
                  <a:chExt cx="4546800" cy="990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495680" y="4343400"/>
                    <a:ext cx="2210040" cy="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flipV="1">
                    <a:off x="2158920" y="3352680"/>
                    <a:ext cx="2362320" cy="990720"/>
                  </a:xfrm>
                  <a:prstGeom prst="line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2832120" y="4013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23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5680" y="4013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157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adius of every planet in the solar system is less than 50,000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6765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w that the conjecture is false by finding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3352680"/>
          <a:ext cx="8839440" cy="17798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814680"/>
                <a:gridCol w="1090440"/>
                <a:gridCol w="1143000"/>
                <a:gridCol w="1219320"/>
                <a:gridCol w="1218960"/>
                <a:gridCol w="1295640"/>
              </a:tblGrid>
              <a:tr h="435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ets’ Diameter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009900"/>
                      </a:solidFill>
                    </a:lnB>
                    <a:solidFill>
                      <a:srgbClr val="99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99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3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04920" y="5364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the radius is half the diameter, the radius of Jupiter is 71,500 km and the radius of Saturn is 60,500 km. The conjecture is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3657600"/>
            <a:ext cx="2286000" cy="175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526760"/>
            <a:ext cx="7924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each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7, 0.07, 0.007, 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665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0.0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386160" cy="132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077320" y="2133720"/>
            <a:ext cx="533160" cy="1066680"/>
          </a:xfrm>
          <a:prstGeom prst="upArrow">
            <a:avLst>
              <a:gd name="adj1" fmla="val 50000"/>
              <a:gd name="adj2" fmla="val 5001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429000"/>
            <a:ext cx="8610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termine if each conjecture is true. If false, give a counter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quotient of two negative numbers is a positive numb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very prime numb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wo supplementary angles are not congr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square of an odd integer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5129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4647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421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alse; 90° and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6107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nuary, March, May,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733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month is Ju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123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Alternating months of the year make up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, 14, 21, 28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733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multiple is 3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549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Multiples of 7 make up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313080" cy="114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C: Identifying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50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In this pattern, the figure rotates 90° counter-clockwise each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4495680"/>
            <a:ext cx="3962520" cy="838440"/>
            <a:chOff x="380880" y="4495680"/>
            <a:chExt cx="3962520" cy="838440"/>
          </a:xfrm>
        </p:grpSpPr>
        <p:sp>
          <p:nvSpPr>
            <p:cNvPr id="67" name=""/>
            <p:cNvSpPr/>
            <p:nvPr/>
          </p:nvSpPr>
          <p:spPr>
            <a:xfrm rot="5400000">
              <a:off x="3123720" y="4648320"/>
              <a:ext cx="838440" cy="5331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he next figure is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76320" y="19051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next item in the pattern 0.4, 0.04, 0.004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771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When reading the pattern from left to right, the next item in the pattern has one more zero after the decim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900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xt item would have 3 zeros after the decimal point, or 0.0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Rea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used Inductive Reason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ll those probl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nductive reasonin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1193760"/>
            <a:ext cx="7924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several examples form a pattern and you assume the pattern will continue, you are applying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ductive reaso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process of reasoning that a rule or statement is true because specific cases are true. You may use inductive reasoning to draw a conclusion from a patte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atement you believe to be true based on inductive reasoning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nject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lete the conj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Making a Conj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438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um of two positive numbers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 ?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876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m of two positive numbers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230280"/>
            <a:ext cx="7696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List some examples and look for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1 + 1 = 2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3.14 + 0.01 = 3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33ff"/>
                </a:solidFill>
                <a:latin typeface="Verdana"/>
              </a:rPr>
              <a:t>3,900 + 1,000,017 = 1,003,9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koneli</cp:lastModifiedBy>
  <dcterms:modified xsi:type="dcterms:W3CDTF">2010-10-18T20:45:42Z</dcterms:modified>
  <cp:revision>112</cp:revision>
  <dc:subject/>
  <dc:title>Slide 1</dc:title>
</cp:coreProperties>
</file>